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10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2.wmf" ContentType="image/x-wmf"/>
  <Override PartName="/ppt/media/camera.wav" ContentType="audio/x-wav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FD91-FF02-4F7A-A417-E2E3C1B8C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25CD-C017-4451-9748-C10B0BB19B5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1336-28AA-4E84-8750-4B8CF4C8686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7776-C33A-4CE2-BF6F-EC411E3D3D5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0AC9-1C1E-4BC3-8A22-552BE31453B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72BD-F6FC-4FB5-BE1B-7BF300A5A89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41DC-B652-4170-A624-8C38412FFC0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5652-F634-43A9-A7CE-8FBD7EAA7BB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1ECD-528C-4EEF-B244-B65245713C3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404C-2D45-4E89-8A4A-DC16DE936D1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1B2F-D453-45CC-B586-F12461ACE1E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999E-C2C6-44CB-91F2-457B176836B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C363-E902-4849-8C07-EB359251AF7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B321-DF3C-4C40-9186-F1EEBA8A28F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E168-1496-4942-B0DE-358D9040B4D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D21F-2AD4-4C48-9D9A-6879B1BF1AE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A973-3AA5-4077-A216-427A3DBF33C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AAC9-D828-40F0-912D-EB7EB9EAF24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0A5E-4E1C-4EEA-9EA8-03D371F7F37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5331-72C1-411A-A2DB-FB1D9A962EC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3145-5397-4802-B1F2-FE8A8474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4F3-AA66-4D91-974D-78AA2C58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D5CD-A72B-49DC-A694-98FA4ADB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E41-0B8C-431F-8F22-431F2D7B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5AEF-9696-4D89-96A3-E7E95E15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D652-835F-4DA3-A26F-F191BC0F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C626-8E59-4982-9976-511CA494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3539-2F48-4451-B551-188BF9F9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8866-793C-4E12-AC20-ACF7F58D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45E3-A1F1-42AF-95EB-08E7F7A9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94FE-0F2F-457F-A3BD-17F73F1A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B884-3069-4F59-A502-32C38030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C0B9-1AB6-4C03-A850-053249DE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1EDC-A6A0-4318-888F-24872688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D4A4-1C42-4A11-8138-34E66B7C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0E64-0614-4E5D-B8F5-D249227D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FBED-AB0E-4085-A90E-A5365929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D33-BB70-46C6-8483-99A24F71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607-717E-4DE5-B317-2365E6E8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CB7B-3C76-412E-83A1-81F63BF7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5598-0402-4ABF-8FB9-B36B6B4C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5428-E54A-4A08-896F-FEB192C8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317-DF0F-4F19-94BE-8719C640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2DE9-1BBE-4ED6-ACB8-EAD30DFE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1559-CFB7-4831-93DF-0E745A13932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F5F2-F6A0-4184-8E8A-713B7E83DC7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1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2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9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0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1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756A-8B60-461F-83F7-7BA34B09B80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62040" y="1782360"/>
            <a:ext cx="60199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El </a:t>
            </a:r>
            <a:r>
              <a:rPr b="0" lang="en-US" sz="5400" spc="-1" strike="noStrike" u="sng">
                <a:solidFill>
                  <a:srgbClr val="ebd189"/>
                </a:solidFill>
                <a:uFillTx/>
                <a:latin typeface="Comic Sans MS"/>
              </a:rPr>
              <a:t>Pretérito</a:t>
            </a:r>
            <a:br>
              <a:rPr sz="5400"/>
            </a:b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de los verbos</a:t>
            </a:r>
            <a:endParaRPr b="0" lang="en-US" sz="5400" spc="-1" strike="noStrike">
              <a:solidFill>
                <a:srgbClr val="ebd189"/>
              </a:solidFill>
              <a:latin typeface="Comic Sans MS"/>
            </a:endParaRPr>
          </a:p>
        </p:txBody>
      </p:sp>
      <p:pic>
        <p:nvPicPr>
          <p:cNvPr id="110" name="Picture 4" descr="c:\Program Files\Microsoft Office\Clipart\standard\stddir2\bs01054_.wmf"/>
          <p:cNvPicPr/>
          <p:nvPr/>
        </p:nvPicPr>
        <p:blipFill>
          <a:blip r:embed="rId1"/>
          <a:stretch/>
        </p:blipFill>
        <p:spPr>
          <a:xfrm>
            <a:off x="3122640" y="4098960"/>
            <a:ext cx="2973240" cy="2504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01EB-7424-4510-A36C-9A4FBA6E7F4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00200" y="1599840"/>
            <a:ext cx="31240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ar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00240" y="4114800"/>
            <a:ext cx="1935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habl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habl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habl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963840" y="4114800"/>
            <a:ext cx="2179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abl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abl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abl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51" name="Picture 5" descr="c:\Program Files\Microsoft Office\Clipart\standard\stddir1\bd05012_.wmf"/>
          <p:cNvPicPr/>
          <p:nvPr/>
        </p:nvPicPr>
        <p:blipFill>
          <a:blip r:embed="rId1"/>
          <a:stretch/>
        </p:blipFill>
        <p:spPr>
          <a:xfrm>
            <a:off x="6934320" y="120600"/>
            <a:ext cx="1779480" cy="1555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53" name="Group 11"/>
          <p:cNvGrpSpPr/>
          <p:nvPr/>
        </p:nvGrpSpPr>
        <p:grpSpPr>
          <a:xfrm>
            <a:off x="1066680" y="3276720"/>
            <a:ext cx="2936880" cy="3273840"/>
            <a:chOff x="1066680" y="3276720"/>
            <a:chExt cx="2936880" cy="3273840"/>
          </a:xfrm>
        </p:grpSpPr>
        <p:sp>
          <p:nvSpPr>
            <p:cNvPr id="154" name="Text Box 9"/>
            <p:cNvSpPr/>
            <p:nvPr/>
          </p:nvSpPr>
          <p:spPr>
            <a:xfrm>
              <a:off x="1747800" y="5969160"/>
              <a:ext cx="138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habl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155" name="Picture 10" descr="c:\Program Files\Microsoft Office\Clipart\standard\stddir4\pe02546_.wmf"/>
            <p:cNvPicPr/>
            <p:nvPr/>
          </p:nvPicPr>
          <p:blipFill>
            <a:blip r:embed="rId2"/>
            <a:stretch/>
          </p:blipFill>
          <p:spPr>
            <a:xfrm>
              <a:off x="1066680" y="3276720"/>
              <a:ext cx="2936880" cy="2682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61F0-8AF7-4696-9FBD-123DFB26F60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00200" y="1599840"/>
            <a:ext cx="31240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ar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67080" y="4114800"/>
            <a:ext cx="2392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trabaj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trabaj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trabaj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552720" y="4114800"/>
            <a:ext cx="2667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rabaj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rabaj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rabaj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60" name="Picture 5" descr="c:\Program Files\Microsoft Office\Clipart\standard\stddir1\bd05012_.wmf"/>
          <p:cNvPicPr/>
          <p:nvPr/>
        </p:nvPicPr>
        <p:blipFill>
          <a:blip r:embed="rId1"/>
          <a:stretch/>
        </p:blipFill>
        <p:spPr>
          <a:xfrm>
            <a:off x="6934320" y="120600"/>
            <a:ext cx="1779480" cy="15559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62" name="Group 11"/>
          <p:cNvGrpSpPr/>
          <p:nvPr/>
        </p:nvGrpSpPr>
        <p:grpSpPr>
          <a:xfrm>
            <a:off x="1066680" y="3200400"/>
            <a:ext cx="2865600" cy="3350160"/>
            <a:chOff x="1066680" y="3200400"/>
            <a:chExt cx="2865600" cy="3350160"/>
          </a:xfrm>
        </p:grpSpPr>
        <p:sp>
          <p:nvSpPr>
            <p:cNvPr id="163" name="Text Box 8"/>
            <p:cNvSpPr/>
            <p:nvPr/>
          </p:nvSpPr>
          <p:spPr>
            <a:xfrm>
              <a:off x="1604520" y="5969160"/>
              <a:ext cx="167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trabaj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164" name="Picture 10" descr="c:\Program Files\Microsoft Office\Clipart\standard\stddir1\bd05153_.wmf"/>
            <p:cNvPicPr/>
            <p:nvPr/>
          </p:nvPicPr>
          <p:blipFill>
            <a:blip r:embed="rId2"/>
            <a:stretch/>
          </p:blipFill>
          <p:spPr>
            <a:xfrm>
              <a:off x="1066680" y="3200400"/>
              <a:ext cx="2865600" cy="2771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DA73-B498-40C0-A900-8DC644406A4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1599840"/>
            <a:ext cx="441972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er / -i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4114800"/>
            <a:ext cx="213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comí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comi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comi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933960" y="4114800"/>
            <a:ext cx="2057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omi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omi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omie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0" name="Picture 10" descr="c:\Program Files\Microsoft Office\Clipart\standard\stddir1\bd05022_.wmf"/>
          <p:cNvPicPr/>
          <p:nvPr/>
        </p:nvPicPr>
        <p:blipFill>
          <a:blip r:embed="rId1"/>
          <a:stretch/>
        </p:blipFill>
        <p:spPr>
          <a:xfrm>
            <a:off x="7010280" y="228600"/>
            <a:ext cx="1874880" cy="17478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1219320" y="3200400"/>
            <a:ext cx="2550960" cy="3350160"/>
            <a:chOff x="1219320" y="3200400"/>
            <a:chExt cx="2550960" cy="3350160"/>
          </a:xfrm>
        </p:grpSpPr>
        <p:sp>
          <p:nvSpPr>
            <p:cNvPr id="172" name="Text Box 8"/>
            <p:cNvSpPr/>
            <p:nvPr/>
          </p:nvSpPr>
          <p:spPr>
            <a:xfrm>
              <a:off x="1781640" y="596916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come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173" name="Picture 11" descr="c:\Program Files\Microsoft Office\Clipart\standard\stddir3\fd00784_.wmf"/>
            <p:cNvPicPr/>
            <p:nvPr/>
          </p:nvPicPr>
          <p:blipFill>
            <a:blip r:embed="rId2"/>
            <a:stretch/>
          </p:blipFill>
          <p:spPr>
            <a:xfrm>
              <a:off x="1219320" y="3200400"/>
              <a:ext cx="2550960" cy="2790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5370-183D-4FDE-A571-A9D11E0BBDF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1599840"/>
            <a:ext cx="441972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er / -i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8320" y="4114800"/>
            <a:ext cx="213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volví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volvi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volvi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933960" y="4114800"/>
            <a:ext cx="2057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olvi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olvi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olvie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9" name="Picture 6" descr="c:\Program Files\Microsoft Office\Clipart\standard\stddir1\bd05022_.wmf"/>
          <p:cNvPicPr/>
          <p:nvPr/>
        </p:nvPicPr>
        <p:blipFill>
          <a:blip r:embed="rId1"/>
          <a:stretch/>
        </p:blipFill>
        <p:spPr>
          <a:xfrm>
            <a:off x="7010280" y="228600"/>
            <a:ext cx="1874880" cy="174780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11"/>
          <p:cNvGrpSpPr/>
          <p:nvPr/>
        </p:nvGrpSpPr>
        <p:grpSpPr>
          <a:xfrm>
            <a:off x="1676520" y="2895480"/>
            <a:ext cx="1753920" cy="3655080"/>
            <a:chOff x="1676520" y="2895480"/>
            <a:chExt cx="1753920" cy="3655080"/>
          </a:xfrm>
        </p:grpSpPr>
        <p:sp>
          <p:nvSpPr>
            <p:cNvPr id="181" name="Text Box 8"/>
            <p:cNvSpPr/>
            <p:nvPr/>
          </p:nvSpPr>
          <p:spPr>
            <a:xfrm>
              <a:off x="1810080" y="5969160"/>
              <a:ext cx="125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volve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182" name="Picture 10" descr="c:\Program Files\Microsoft Office\Clipart\corpbas\j0078750.wmf"/>
            <p:cNvPicPr/>
            <p:nvPr/>
          </p:nvPicPr>
          <p:blipFill>
            <a:blip r:embed="rId2"/>
            <a:stretch/>
          </p:blipFill>
          <p:spPr>
            <a:xfrm>
              <a:off x="1676520" y="2895480"/>
              <a:ext cx="1753920" cy="3110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E798-0311-49DC-9680-C33A03009E8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1599840"/>
            <a:ext cx="441972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er / -i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4114800"/>
            <a:ext cx="213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brí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bri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bri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933960" y="4114800"/>
            <a:ext cx="2057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bri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bri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brie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8" name="Picture 6" descr="c:\Program Files\Microsoft Office\Clipart\standard\stddir1\bd05022_.wmf"/>
          <p:cNvPicPr/>
          <p:nvPr/>
        </p:nvPicPr>
        <p:blipFill>
          <a:blip r:embed="rId1"/>
          <a:stretch/>
        </p:blipFill>
        <p:spPr>
          <a:xfrm>
            <a:off x="7010280" y="228600"/>
            <a:ext cx="1874880" cy="17478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11"/>
          <p:cNvGrpSpPr/>
          <p:nvPr/>
        </p:nvGrpSpPr>
        <p:grpSpPr>
          <a:xfrm>
            <a:off x="1447920" y="3124080"/>
            <a:ext cx="2212920" cy="3426480"/>
            <a:chOff x="1447920" y="3124080"/>
            <a:chExt cx="2212920" cy="3426480"/>
          </a:xfrm>
        </p:grpSpPr>
        <p:sp>
          <p:nvSpPr>
            <p:cNvPr id="190" name="Text Box 8"/>
            <p:cNvSpPr/>
            <p:nvPr/>
          </p:nvSpPr>
          <p:spPr>
            <a:xfrm>
              <a:off x="1900800" y="5969160"/>
              <a:ext cx="107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abri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191" name="Picture 10" descr="c:\Program Files\Microsoft Office\Clipart\standard\stddir3\hh01298_.wmf"/>
            <p:cNvPicPr/>
            <p:nvPr/>
          </p:nvPicPr>
          <p:blipFill>
            <a:blip r:embed="rId2"/>
            <a:stretch/>
          </p:blipFill>
          <p:spPr>
            <a:xfrm>
              <a:off x="1447920" y="3124080"/>
              <a:ext cx="2212920" cy="2876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9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4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9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02A0-2F2D-42E0-9010-5E8CF5A8A81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1599840"/>
            <a:ext cx="441972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er / -i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419720" y="4114800"/>
            <a:ext cx="213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escribí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escribi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escribi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705360" y="4114800"/>
            <a:ext cx="2438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scribi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scribi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scribie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7" name="Picture 6" descr="c:\Program Files\Microsoft Office\Clipart\standard\stddir1\bd05022_.wmf"/>
          <p:cNvPicPr/>
          <p:nvPr/>
        </p:nvPicPr>
        <p:blipFill>
          <a:blip r:embed="rId1"/>
          <a:stretch/>
        </p:blipFill>
        <p:spPr>
          <a:xfrm>
            <a:off x="7010280" y="228600"/>
            <a:ext cx="1874880" cy="174780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12"/>
          <p:cNvGrpSpPr/>
          <p:nvPr/>
        </p:nvGrpSpPr>
        <p:grpSpPr>
          <a:xfrm>
            <a:off x="1143000" y="3200400"/>
            <a:ext cx="2724120" cy="3350160"/>
            <a:chOff x="1143000" y="3200400"/>
            <a:chExt cx="2724120" cy="3350160"/>
          </a:xfrm>
        </p:grpSpPr>
        <p:sp>
          <p:nvSpPr>
            <p:cNvPr id="199" name="Text Box 8"/>
            <p:cNvSpPr/>
            <p:nvPr/>
          </p:nvSpPr>
          <p:spPr>
            <a:xfrm>
              <a:off x="1682640" y="5969160"/>
              <a:ext cx="151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escribi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00" name="Picture 11" descr="c:\Program Files\Microsoft Office\Clipart\standard\stddir3\pe01756_.wmf"/>
            <p:cNvPicPr/>
            <p:nvPr/>
          </p:nvPicPr>
          <p:blipFill>
            <a:blip r:embed="rId2"/>
            <a:stretch/>
          </p:blipFill>
          <p:spPr>
            <a:xfrm>
              <a:off x="1143000" y="3200400"/>
              <a:ext cx="2724120" cy="270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1761-01A2-4872-B2E3-1700B153010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1676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Verbs ending in </a:t>
            </a:r>
            <a:r>
              <a:rPr b="0" i="1" lang="es-ES_tradnl" sz="4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i="1" lang="es-ES_tradnl" sz="4000" spc="-1" strike="noStrike" u="sng">
                <a:solidFill>
                  <a:srgbClr val="ffffff"/>
                </a:solidFill>
                <a:uFillTx/>
                <a:latin typeface="Comic Sans MS"/>
              </a:rPr>
              <a:t>car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, </a:t>
            </a:r>
            <a:r>
              <a:rPr b="0" i="1" lang="es-ES_tradnl" sz="4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i="1" lang="es-ES_tradnl" sz="4000" spc="-1" strike="noStrike" u="sng">
                <a:solidFill>
                  <a:srgbClr val="ffffff"/>
                </a:solidFill>
                <a:uFillTx/>
                <a:latin typeface="Comic Sans MS"/>
              </a:rPr>
              <a:t>gar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, and</a:t>
            </a:r>
            <a:br>
              <a:rPr sz="4000"/>
            </a:br>
            <a:r>
              <a:rPr b="0" i="1" lang="es-ES_tradnl" sz="4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i="1" lang="es-ES_tradnl" sz="4000" spc="-1" strike="noStrike" u="sng">
                <a:solidFill>
                  <a:srgbClr val="ffffff"/>
                </a:solidFill>
                <a:uFillTx/>
                <a:latin typeface="Comic Sans MS"/>
              </a:rPr>
              <a:t>zar</a:t>
            </a:r>
            <a:r>
              <a:rPr b="0" i="1" lang="es-ES_tradnl" sz="4000" spc="-1" strike="noStrike">
                <a:solidFill>
                  <a:srgbClr val="ebd189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 have a spelling change in the “yo” form of the </a:t>
            </a:r>
            <a:r>
              <a:rPr b="0" i="1" lang="es-ES_tradnl" sz="4000" spc="-1" strike="noStrike">
                <a:solidFill>
                  <a:srgbClr val="ebd189"/>
                </a:solidFill>
                <a:latin typeface="Comic Sans MS"/>
              </a:rPr>
              <a:t>pretérito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4038120"/>
            <a:ext cx="6019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buscar      tocar        practica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pagar        jugar        llega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lmorzar   empezar   comenza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170720" y="533520"/>
            <a:ext cx="58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Unos Irregulares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5" name="Picture 6" descr="c:\Program Files\Microsoft Office\Clipart\standard\stddir4\pe02106_.wmf"/>
          <p:cNvPicPr/>
          <p:nvPr/>
        </p:nvPicPr>
        <p:blipFill>
          <a:blip r:embed="rId1"/>
          <a:stretch/>
        </p:blipFill>
        <p:spPr>
          <a:xfrm>
            <a:off x="6743880" y="4795920"/>
            <a:ext cx="2400120" cy="2062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amera.wav"/>
      </p:stSnd>
    </p:sndAc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3B91-D1BD-4975-A711-CF430C8C37E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1066680" y="3808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The “yo” form of the </a:t>
            </a:r>
            <a:r>
              <a:rPr b="0" i="1" lang="es-ES_tradnl" sz="4000" spc="-1" strike="noStrike">
                <a:solidFill>
                  <a:srgbClr val="ebd189"/>
                </a:solidFill>
                <a:latin typeface="Comic Sans MS"/>
              </a:rPr>
              <a:t>pretérito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 changes to conserve the </a:t>
            </a:r>
            <a:r>
              <a:rPr b="0" i="1" lang="es-ES_tradnl" sz="4000" spc="-1" strike="noStrike" u="sng">
                <a:solidFill>
                  <a:srgbClr val="ebd189"/>
                </a:solidFill>
                <a:uFillTx/>
                <a:latin typeface="Comic Sans MS"/>
              </a:rPr>
              <a:t>sound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 of the infinitive: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600200" y="3505320"/>
            <a:ext cx="2666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Comic Sans MS"/>
              </a:rPr>
              <a:t>-car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Comic Sans MS"/>
              </a:rPr>
              <a:t>-gar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Comic Sans MS"/>
              </a:rPr>
              <a:t>-zar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809880" y="3505320"/>
            <a:ext cx="3124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-qu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-gu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-c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6095880" y="3505320"/>
            <a:ext cx="1905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toc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jug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rez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211" name="Group 9"/>
          <p:cNvGrpSpPr/>
          <p:nvPr/>
        </p:nvGrpSpPr>
        <p:grpSpPr>
          <a:xfrm>
            <a:off x="6553080" y="3657600"/>
            <a:ext cx="609840" cy="351000"/>
            <a:chOff x="6553080" y="3657600"/>
            <a:chExt cx="609840" cy="351000"/>
          </a:xfrm>
        </p:grpSpPr>
        <p:sp>
          <p:nvSpPr>
            <p:cNvPr id="212" name="Line 7"/>
            <p:cNvSpPr/>
            <p:nvPr/>
          </p:nvSpPr>
          <p:spPr>
            <a:xfrm>
              <a:off x="6553080" y="3657600"/>
              <a:ext cx="60984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 flipH="1">
              <a:off x="6553080" y="3657600"/>
              <a:ext cx="60984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14" name="Group 10"/>
          <p:cNvGrpSpPr/>
          <p:nvPr/>
        </p:nvGrpSpPr>
        <p:grpSpPr>
          <a:xfrm>
            <a:off x="6553080" y="4373640"/>
            <a:ext cx="609840" cy="350640"/>
            <a:chOff x="6553080" y="4373640"/>
            <a:chExt cx="609840" cy="350640"/>
          </a:xfrm>
        </p:grpSpPr>
        <p:sp>
          <p:nvSpPr>
            <p:cNvPr id="215" name="Line 11"/>
            <p:cNvSpPr/>
            <p:nvPr/>
          </p:nvSpPr>
          <p:spPr>
            <a:xfrm>
              <a:off x="6553080" y="4373640"/>
              <a:ext cx="609840" cy="350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16" name="Line 12"/>
            <p:cNvSpPr/>
            <p:nvPr/>
          </p:nvSpPr>
          <p:spPr>
            <a:xfrm flipH="1">
              <a:off x="6553080" y="4373640"/>
              <a:ext cx="609840" cy="350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17" name="Group 13"/>
          <p:cNvGrpSpPr/>
          <p:nvPr/>
        </p:nvGrpSpPr>
        <p:grpSpPr>
          <a:xfrm>
            <a:off x="6553080" y="4983120"/>
            <a:ext cx="609840" cy="351000"/>
            <a:chOff x="6553080" y="4983120"/>
            <a:chExt cx="609840" cy="351000"/>
          </a:xfrm>
        </p:grpSpPr>
        <p:sp>
          <p:nvSpPr>
            <p:cNvPr id="218" name="Line 14"/>
            <p:cNvSpPr/>
            <p:nvPr/>
          </p:nvSpPr>
          <p:spPr>
            <a:xfrm>
              <a:off x="6553080" y="4983120"/>
              <a:ext cx="60984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 flipH="1">
              <a:off x="6553080" y="4983120"/>
              <a:ext cx="60984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</p:spTree>
  </p:cSld>
  <p:transition spd="med">
    <p:zoom dir="in"/>
    <p:sndAc>
      <p:stSnd>
        <p:snd r:embed="rId1" name="camera.wav"/>
      </p:stSnd>
    </p:sndAc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8579-59E9-4806-B2AC-6ABD99AECDE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ca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040" y="4114800"/>
            <a:ext cx="2133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bus</a:t>
            </a:r>
            <a:r>
              <a:rPr b="0" i="1" lang="es-ES_tradnl" sz="3200" spc="-1" strike="noStrike" u="sng">
                <a:solidFill>
                  <a:srgbClr val="eaeaea"/>
                </a:solidFill>
                <a:uFillTx/>
                <a:latin typeface="Comic Sans MS"/>
              </a:rPr>
              <a:t>qu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busc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busc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00040" y="4114800"/>
            <a:ext cx="2438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usc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usc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usc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5" name="Picture 11" descr="c:\Program Files\Microsoft Office\Clipart\standard\stddir1\bd04974_.wmf"/>
          <p:cNvPicPr/>
          <p:nvPr/>
        </p:nvPicPr>
        <p:blipFill>
          <a:blip r:embed="rId1"/>
          <a:stretch/>
        </p:blipFill>
        <p:spPr>
          <a:xfrm>
            <a:off x="1295280" y="304920"/>
            <a:ext cx="1841760" cy="220968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13"/>
          <p:cNvGrpSpPr/>
          <p:nvPr/>
        </p:nvGrpSpPr>
        <p:grpSpPr>
          <a:xfrm>
            <a:off x="6408720" y="3124080"/>
            <a:ext cx="2201760" cy="3350160"/>
            <a:chOff x="6408720" y="3124080"/>
            <a:chExt cx="2201760" cy="3350160"/>
          </a:xfrm>
        </p:grpSpPr>
        <p:sp>
          <p:nvSpPr>
            <p:cNvPr id="227" name="Text Box 8"/>
            <p:cNvSpPr/>
            <p:nvPr/>
          </p:nvSpPr>
          <p:spPr>
            <a:xfrm>
              <a:off x="6773400" y="5892840"/>
              <a:ext cx="140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busc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28" name="Picture 12" descr="c:\Program Files\Microsoft Office\Clipart\standard\stddir1\bd05609_.wmf"/>
            <p:cNvPicPr/>
            <p:nvPr/>
          </p:nvPicPr>
          <p:blipFill>
            <a:blip r:embed="rId2"/>
            <a:stretch/>
          </p:blipFill>
          <p:spPr>
            <a:xfrm>
              <a:off x="6408720" y="3124080"/>
              <a:ext cx="2201760" cy="2847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84F1-C124-47B2-9C52-89D0844818C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ca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practi</a:t>
            </a:r>
            <a:r>
              <a:rPr b="0" i="1" lang="es-ES_tradnl" sz="3200" spc="-1" strike="noStrike" u="sng">
                <a:solidFill>
                  <a:srgbClr val="eaeaea"/>
                </a:solidFill>
                <a:uFillTx/>
                <a:latin typeface="Comic Sans MS"/>
              </a:rPr>
              <a:t>qu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practic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practic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52680" y="41148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ractic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ractic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ractic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34" name="Picture 6" descr="c:\Program Files\Microsoft Office\Clipart\standard\stddir1\bd04974_.wmf"/>
          <p:cNvPicPr/>
          <p:nvPr/>
        </p:nvPicPr>
        <p:blipFill>
          <a:blip r:embed="rId1"/>
          <a:stretch/>
        </p:blipFill>
        <p:spPr>
          <a:xfrm>
            <a:off x="1295280" y="304920"/>
            <a:ext cx="1841760" cy="220968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11"/>
          <p:cNvGrpSpPr/>
          <p:nvPr/>
        </p:nvGrpSpPr>
        <p:grpSpPr>
          <a:xfrm>
            <a:off x="6332400" y="3200400"/>
            <a:ext cx="2430720" cy="3273840"/>
            <a:chOff x="6332400" y="3200400"/>
            <a:chExt cx="2430720" cy="3273840"/>
          </a:xfrm>
        </p:grpSpPr>
        <p:sp>
          <p:nvSpPr>
            <p:cNvPr id="236" name="Text Box 8"/>
            <p:cNvSpPr/>
            <p:nvPr/>
          </p:nvSpPr>
          <p:spPr>
            <a:xfrm>
              <a:off x="6648120" y="5892840"/>
              <a:ext cx="181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practic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37" name="Picture 10" descr="c:\Program Files\Common Files\Microsoft Shared\Clipart\cagcat50\PE01686_.wmf"/>
            <p:cNvPicPr/>
            <p:nvPr/>
          </p:nvPicPr>
          <p:blipFill>
            <a:blip r:embed="rId2"/>
            <a:stretch/>
          </p:blipFill>
          <p:spPr>
            <a:xfrm>
              <a:off x="6332400" y="3200400"/>
              <a:ext cx="2430720" cy="264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D2DC-E446-4E2F-A7A6-FE19AC12959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720" y="4191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I went to the store.</a:t>
            </a:r>
            <a:endParaRPr b="0" lang="en-US" sz="36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I bought a shirt.</a:t>
            </a:r>
            <a:endParaRPr b="0" lang="en-US" sz="36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I paid in cash.</a:t>
            </a:r>
            <a:endParaRPr b="0" lang="en-US" sz="36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1562040" y="22860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El </a:t>
            </a:r>
            <a:r>
              <a:rPr b="0" lang="en-US" sz="5400" spc="-1" strike="noStrike" u="sng">
                <a:solidFill>
                  <a:srgbClr val="ebd189"/>
                </a:solidFill>
                <a:uFillTx/>
                <a:latin typeface="Comic Sans MS"/>
              </a:rPr>
              <a:t>Pretérito</a:t>
            </a: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615680" y="1536840"/>
            <a:ext cx="645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is a </a:t>
            </a:r>
            <a:r>
              <a:rPr b="0" lang="en-US" sz="3600" spc="-1" strike="noStrike" u="sng">
                <a:solidFill>
                  <a:srgbClr val="ebd189"/>
                </a:solidFill>
                <a:uFillTx/>
                <a:latin typeface="Comic Sans MS"/>
              </a:rPr>
              <a:t>past</a:t>
            </a: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 tense (“-ed”)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talks about </a:t>
            </a:r>
            <a:r>
              <a:rPr b="0" lang="en-US" sz="3600" spc="-1" strike="noStrike" u="sng">
                <a:solidFill>
                  <a:srgbClr val="ebd189"/>
                </a:solidFill>
                <a:uFillTx/>
                <a:latin typeface="Comic Sans MS"/>
              </a:rPr>
              <a:t>what happened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is a </a:t>
            </a:r>
            <a:r>
              <a:rPr b="0" lang="en-US" sz="3600" spc="-1" strike="noStrike" u="sng">
                <a:solidFill>
                  <a:srgbClr val="ebd189"/>
                </a:solidFill>
                <a:uFillTx/>
                <a:latin typeface="Comic Sans MS"/>
              </a:rPr>
              <a:t>completed action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It’s specific!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96FC-1CA4-47E2-9FFC-B754C102658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ga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pa</a:t>
            </a:r>
            <a:r>
              <a:rPr b="0" i="1" lang="es-ES_tradnl" sz="3200" spc="-1" strike="noStrike" u="sng">
                <a:solidFill>
                  <a:srgbClr val="eaeaea"/>
                </a:solidFill>
                <a:uFillTx/>
                <a:latin typeface="Comic Sans MS"/>
              </a:rPr>
              <a:t>gu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pag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pag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52680" y="41148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ag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ag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ag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43" name="Picture 10" descr="c:\Program Files\Microsoft Office\Clipart\standard\stddir1\bd07225_.wmf"/>
          <p:cNvPicPr/>
          <p:nvPr/>
        </p:nvPicPr>
        <p:blipFill>
          <a:blip r:embed="rId1"/>
          <a:stretch/>
        </p:blipFill>
        <p:spPr>
          <a:xfrm>
            <a:off x="1219320" y="341280"/>
            <a:ext cx="2133360" cy="171612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12"/>
          <p:cNvGrpSpPr/>
          <p:nvPr/>
        </p:nvGrpSpPr>
        <p:grpSpPr>
          <a:xfrm>
            <a:off x="6400800" y="2971800"/>
            <a:ext cx="2209680" cy="3502440"/>
            <a:chOff x="6400800" y="2971800"/>
            <a:chExt cx="2209680" cy="3502440"/>
          </a:xfrm>
        </p:grpSpPr>
        <p:sp>
          <p:nvSpPr>
            <p:cNvPr id="245" name="Text Box 8"/>
            <p:cNvSpPr/>
            <p:nvPr/>
          </p:nvSpPr>
          <p:spPr>
            <a:xfrm>
              <a:off x="6914520" y="5892840"/>
              <a:ext cx="127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pag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46" name="Picture 11" descr="c:\Program Files\Microsoft Office\Clipart\standard\stddir1\bd04948_.wmf"/>
            <p:cNvPicPr/>
            <p:nvPr/>
          </p:nvPicPr>
          <p:blipFill>
            <a:blip r:embed="rId2"/>
            <a:stretch/>
          </p:blipFill>
          <p:spPr>
            <a:xfrm>
              <a:off x="6400800" y="2971800"/>
              <a:ext cx="2209680" cy="2940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529C-8E79-48ED-8A14-7BC55BE0EC2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ga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ju</a:t>
            </a:r>
            <a:r>
              <a:rPr b="0" i="1" lang="es-ES_tradnl" sz="3200" spc="-1" strike="noStrike" u="sng">
                <a:solidFill>
                  <a:srgbClr val="eaeaea"/>
                </a:solidFill>
                <a:uFillTx/>
                <a:latin typeface="Comic Sans MS"/>
              </a:rPr>
              <a:t>gu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jug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jug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52680" y="41148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jug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jug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jug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52" name="Picture 6" descr="c:\Program Files\Microsoft Office\Clipart\standard\stddir1\bd07225_.wmf"/>
          <p:cNvPicPr/>
          <p:nvPr/>
        </p:nvPicPr>
        <p:blipFill>
          <a:blip r:embed="rId1"/>
          <a:stretch/>
        </p:blipFill>
        <p:spPr>
          <a:xfrm>
            <a:off x="1219320" y="341280"/>
            <a:ext cx="2133360" cy="171612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11"/>
          <p:cNvGrpSpPr/>
          <p:nvPr/>
        </p:nvGrpSpPr>
        <p:grpSpPr>
          <a:xfrm>
            <a:off x="6324480" y="3124080"/>
            <a:ext cx="2422800" cy="3350160"/>
            <a:chOff x="6324480" y="3124080"/>
            <a:chExt cx="2422800" cy="3350160"/>
          </a:xfrm>
        </p:grpSpPr>
        <p:sp>
          <p:nvSpPr>
            <p:cNvPr id="254" name="Text Box 8"/>
            <p:cNvSpPr/>
            <p:nvPr/>
          </p:nvSpPr>
          <p:spPr>
            <a:xfrm>
              <a:off x="6977160" y="5892840"/>
              <a:ext cx="11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jug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55" name="Picture 10" descr="c:\Program Files\Microsoft Office\Clipart\standard\stddir1\bd05649_.wmf"/>
            <p:cNvPicPr/>
            <p:nvPr/>
          </p:nvPicPr>
          <p:blipFill>
            <a:blip r:embed="rId2"/>
            <a:stretch/>
          </p:blipFill>
          <p:spPr>
            <a:xfrm>
              <a:off x="6324480" y="3124080"/>
              <a:ext cx="2422800" cy="2740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5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0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0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5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0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5341-FC3C-4EDF-AA65-2DB91FB184C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za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lmor</a:t>
            </a:r>
            <a:r>
              <a:rPr b="0" i="1" lang="es-ES_tradnl" sz="3200" spc="-1" strike="noStrike" u="sng">
                <a:solidFill>
                  <a:srgbClr val="eaeaea"/>
                </a:solidFill>
                <a:uFillTx/>
                <a:latin typeface="Comic Sans MS"/>
              </a:rPr>
              <a:t>c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lmorz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lmorz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52680" y="41148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lmorz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lmorz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lmorz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61" name="Picture 6" descr="c:\Program Files\Microsoft Office\Clipart\standard\stddir1\bd07225_.wmf"/>
          <p:cNvPicPr/>
          <p:nvPr/>
        </p:nvPicPr>
        <p:blipFill>
          <a:blip r:embed="rId1"/>
          <a:stretch/>
        </p:blipFill>
        <p:spPr>
          <a:xfrm>
            <a:off x="1219320" y="341280"/>
            <a:ext cx="2133360" cy="171612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11"/>
          <p:cNvGrpSpPr/>
          <p:nvPr/>
        </p:nvGrpSpPr>
        <p:grpSpPr>
          <a:xfrm>
            <a:off x="6172200" y="3962520"/>
            <a:ext cx="2755800" cy="2511720"/>
            <a:chOff x="6172200" y="3962520"/>
            <a:chExt cx="2755800" cy="2511720"/>
          </a:xfrm>
        </p:grpSpPr>
        <p:sp>
          <p:nvSpPr>
            <p:cNvPr id="263" name="Text Box 8"/>
            <p:cNvSpPr/>
            <p:nvPr/>
          </p:nvSpPr>
          <p:spPr>
            <a:xfrm>
              <a:off x="6635520" y="5892840"/>
              <a:ext cx="183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almorz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64" name="Picture 10" descr="c:\Program Files\Microsoft Office\Clipart\standard\stddir3\fd00723_.wmf"/>
            <p:cNvPicPr/>
            <p:nvPr/>
          </p:nvPicPr>
          <p:blipFill>
            <a:blip r:embed="rId2"/>
            <a:stretch/>
          </p:blipFill>
          <p:spPr>
            <a:xfrm>
              <a:off x="6172200" y="3962520"/>
              <a:ext cx="2755800" cy="1550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6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1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1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6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2E9A-D253-4D98-9459-A8C8F36C7F7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za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empe</a:t>
            </a:r>
            <a:r>
              <a:rPr b="0" i="1" lang="es-ES_tradnl" sz="3200" spc="-1" strike="noStrike" u="sng">
                <a:solidFill>
                  <a:srgbClr val="eaeaea"/>
                </a:solidFill>
                <a:uFillTx/>
                <a:latin typeface="Comic Sans MS"/>
              </a:rPr>
              <a:t>c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empez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empez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52680" y="41148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mpez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mpez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mpez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70" name="Picture 6" descr="c:\Program Files\Microsoft Office\Clipart\standard\stddir1\bd07225_.wmf"/>
          <p:cNvPicPr/>
          <p:nvPr/>
        </p:nvPicPr>
        <p:blipFill>
          <a:blip r:embed="rId1"/>
          <a:stretch/>
        </p:blipFill>
        <p:spPr>
          <a:xfrm>
            <a:off x="1219320" y="341280"/>
            <a:ext cx="2133360" cy="171612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11"/>
          <p:cNvGrpSpPr/>
          <p:nvPr/>
        </p:nvGrpSpPr>
        <p:grpSpPr>
          <a:xfrm>
            <a:off x="6553080" y="3124080"/>
            <a:ext cx="1932120" cy="3350160"/>
            <a:chOff x="6553080" y="3124080"/>
            <a:chExt cx="1932120" cy="3350160"/>
          </a:xfrm>
        </p:grpSpPr>
        <p:sp>
          <p:nvSpPr>
            <p:cNvPr id="272" name="Text Box 8"/>
            <p:cNvSpPr/>
            <p:nvPr/>
          </p:nvSpPr>
          <p:spPr>
            <a:xfrm>
              <a:off x="6676560" y="5892840"/>
              <a:ext cx="175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empez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73" name="Picture 10" descr="c:\Program Files\Microsoft Office\Clipart\standard\stddir1\bd05037_.wmf"/>
            <p:cNvPicPr/>
            <p:nvPr/>
          </p:nvPicPr>
          <p:blipFill>
            <a:blip r:embed="rId2"/>
            <a:stretch/>
          </p:blipFill>
          <p:spPr>
            <a:xfrm>
              <a:off x="6553080" y="3124080"/>
              <a:ext cx="1932120" cy="2730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2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7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7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2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IR Stem-changing Verbs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Verbs that are stem-changing make a spelling change in the Preterite. ONLY in the él/ella/ud. AND ellos/ellas/Uds forms!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29200" y="16765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Dormir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lvl="1" marL="616680" indent="-2372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Dormí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616680" indent="-2372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Dormiste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616680" indent="-2372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DURMIO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616680" indent="-2372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Dormimos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616680" indent="-2372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DURMIERON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616680" indent="-2372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61668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Pedir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61668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pedí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    pedimos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61668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pediste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   PIDIERON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61668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PIDIO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A2C9-2060-4F07-95DC-7163E6D5DC2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Más verbos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Morir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Mori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moriste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MURIO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Morimos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MURIERON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Preferir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Sentir(se)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Repetir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Seguir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Servir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9B17-C68B-420D-854E-43176DDAEE7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Verbs with I---Y change &amp; 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-ucir -- j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066680" y="1676160"/>
            <a:ext cx="3810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Is ONLY done in the él/ella/ud AND the ellos/ellas/uds forms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Creer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Creí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creiste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Creyó  creimos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Creyeron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Leer, Oir, Caer,  Incluir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Producir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Produjé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Produjiste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Produjó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Produjimos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Produjeron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Conducir, traducir &amp; introducir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85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CE09-A6E1-416A-B918-354735CA691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mic Sans MS"/>
              </a:rPr>
              <a:t>When do you use the Preterite?</a:t>
            </a:r>
            <a:endParaRPr b="0" lang="en-US" sz="40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133720" y="21333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1- Ask yourself 2 questions.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or how long? When? (did the action take place.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2- </a:t>
            </a: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Don’t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 use the preterite if you translate the sentence using “used to” 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John called me.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John used to call me.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F302-B2B8-46DB-BC18-286C756A614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Common Key Words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ye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la semana pasada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noche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l mes pasado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sta mañana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l año pasado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sta tarde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ace _____ (--ago)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sta noche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yer por la mañana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77A9-A1E6-4BA4-9854-90443ECF9EF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4595-5B0B-46F3-B8FB-E8798BADCAB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The </a:t>
            </a:r>
            <a:r>
              <a:rPr b="0" i="1" lang="en-US" sz="4400" spc="-1" strike="noStrike">
                <a:solidFill>
                  <a:srgbClr val="ebd189"/>
                </a:solidFill>
                <a:latin typeface="Comic Sans MS"/>
              </a:rPr>
              <a:t>stem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for regular verbs in the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Comic Sans MS"/>
              </a:rPr>
              <a:t>pretérito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is the infinitive stem.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oma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om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188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abla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abl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188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ome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om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188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ebe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eb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188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bri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br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188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ali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al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0D98-F28F-42CE-BDFE-958C3A67265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Comic Sans MS"/>
              </a:rPr>
              <a:t>Pretérito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endings for </a:t>
            </a:r>
            <a:r>
              <a:rPr b="0" i="1" lang="en-US" sz="4400" spc="-1" strike="noStrike">
                <a:solidFill>
                  <a:srgbClr val="ebd189"/>
                </a:solidFill>
                <a:latin typeface="Comic Sans MS"/>
              </a:rPr>
              <a:t>-ar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verbs are: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37339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é     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aste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ó     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30480" y="37339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amo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astei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aron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133720" y="3429000"/>
            <a:ext cx="5105160" cy="29718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8A68-0ACD-4456-8F5B-841886EDFB5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Comic Sans MS"/>
              </a:rPr>
              <a:t>Pretérito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endings for </a:t>
            </a:r>
            <a:r>
              <a:rPr b="0" i="1" lang="en-US" sz="4400" spc="-1" strike="noStrike">
                <a:solidFill>
                  <a:srgbClr val="ebd189"/>
                </a:solidFill>
                <a:latin typeface="Comic Sans MS"/>
              </a:rPr>
              <a:t>–er / -ir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verbs are: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37339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í     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iste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ió     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30480" y="37339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imo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istei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ieron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133720" y="3429000"/>
            <a:ext cx="5105160" cy="29718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E0D6-58B2-405E-855D-DBFD43440CE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066680" y="304920"/>
            <a:ext cx="3657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Comic Sans MS"/>
              </a:rPr>
              <a:t>REMEMBER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6" name="Picture 3" descr="c:\Program Files\Microsoft Office\Clipart\standard\stddir2\bs00950_.wmf"/>
          <p:cNvPicPr/>
          <p:nvPr/>
        </p:nvPicPr>
        <p:blipFill>
          <a:blip r:embed="rId1"/>
          <a:stretch/>
        </p:blipFill>
        <p:spPr>
          <a:xfrm>
            <a:off x="6781680" y="228600"/>
            <a:ext cx="2163960" cy="2268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905120" y="2698920"/>
            <a:ext cx="5715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accents on the “yo” form  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and the “él / ella / Ud.”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form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-ar / -ir “nosotros” form is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the same in present and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ebd189"/>
                </a:solidFill>
                <a:latin typeface="Comic Sans MS"/>
              </a:rPr>
              <a:t>pretérito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2" name="camera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A6DC-92CD-430B-A0ED-4C281831640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00200" y="1599840"/>
            <a:ext cx="31240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ar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00240" y="4114800"/>
            <a:ext cx="1935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tom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tom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tom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963840" y="4114800"/>
            <a:ext cx="2179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om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om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om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42" name="Picture 5" descr="c:\Program Files\Microsoft Office\Clipart\standard\stddir1\bd05012_.wmf"/>
          <p:cNvPicPr/>
          <p:nvPr/>
        </p:nvPicPr>
        <p:blipFill>
          <a:blip r:embed="rId1"/>
          <a:stretch/>
        </p:blipFill>
        <p:spPr>
          <a:xfrm>
            <a:off x="6934320" y="120600"/>
            <a:ext cx="1779480" cy="15559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44" name="Group 9"/>
          <p:cNvGrpSpPr/>
          <p:nvPr/>
        </p:nvGrpSpPr>
        <p:grpSpPr>
          <a:xfrm>
            <a:off x="1447920" y="2971800"/>
            <a:ext cx="1974600" cy="3578760"/>
            <a:chOff x="1447920" y="2971800"/>
            <a:chExt cx="1974600" cy="3578760"/>
          </a:xfrm>
        </p:grpSpPr>
        <p:pic>
          <p:nvPicPr>
            <p:cNvPr id="145" name="Picture 7" descr="c:\Program Files\Microsoft Office\Clipart\standard\stddir1\bd05307_.wmf"/>
            <p:cNvPicPr/>
            <p:nvPr/>
          </p:nvPicPr>
          <p:blipFill>
            <a:blip r:embed="rId2"/>
            <a:stretch/>
          </p:blipFill>
          <p:spPr>
            <a:xfrm>
              <a:off x="1447920" y="2971800"/>
              <a:ext cx="19746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8"/>
            <p:cNvSpPr/>
            <p:nvPr/>
          </p:nvSpPr>
          <p:spPr>
            <a:xfrm>
              <a:off x="1793160" y="5969160"/>
              <a:ext cx="129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tom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7T16:42:38Z</dcterms:created>
  <dc:creator>olseng</dc:creator>
  <dc:description/>
  <dc:language>en-US</dc:language>
  <cp:lastModifiedBy>Maple Lake</cp:lastModifiedBy>
  <dcterms:modified xsi:type="dcterms:W3CDTF">2008-09-16T16:30:07Z</dcterms:modified>
  <cp:revision>65</cp:revision>
  <dc:subject/>
  <dc:title>The Preterit</dc:title>
</cp:coreProperties>
</file>